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9B77C8-798C-4B8D-AD68-9D29DC2E9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EE4968-598A-4FCA-88EE-209F56243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7240"/>
            <a:ext cx="4581360" cy="3435480"/>
          </a:xfrm>
          <a:prstGeom prst="rect">
            <a:avLst/>
          </a:prstGeom>
          <a:ln w="0">
            <a:noFill/>
          </a:ln>
        </p:spPr>
      </p:sp>
      <p:sp>
        <p:nvSpPr>
          <p:cNvPr id="17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hings that programmers, systems admins, and users can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s eliminate buffer overflow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hould not open attachments.  Sys admins can auto-strip email attachm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 admins and users can disable unnecessary funcationlity.  And use firewalls to restrict access to ports that shouldn’t be used and may be vulnera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7240"/>
            <a:ext cx="4581360" cy="3435480"/>
          </a:xfrm>
          <a:prstGeom prst="rect">
            <a:avLst/>
          </a:prstGeom>
          <a:ln w="0">
            <a:noFill/>
          </a:ln>
        </p:spPr>
      </p:sp>
      <p:sp>
        <p:nvSpPr>
          <p:cNvPr id="16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 we are going to do is survey some of the most popular and serious viruses and worms that have wreaked havoc by taking advantage of buffer overflow vulnerabilities in widely deployed progr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urposes of this course, we define a virus as a computer program that is capable of making copies of itself, and inserting those copies into other programs.  Viruses may make copies of themselves onto other programs stored on a computers hard disk or onto floppy disks inserted into the compu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m is a virus that may be capable of not only making copies of itself into other programs on hard or floppy disks attached to a particular computer, but are capable of using a computer network to make copies of itself onto other computers (and/or the disks attached to other compu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mputer viruses are a serious threat, the amount of damage they can cause is limited by the number of floppy disks that are infected, and then inserted into other computers.  On the other hand, worms spread much more quickly than viruses since a computer infected with a worm can constantly make connections to other computers anywhere on the network and infect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 in “White-Hat” Security Arsenal by Avi Rub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9480" y="687240"/>
            <a:ext cx="4581360" cy="3435480"/>
          </a:xfrm>
          <a:prstGeom prst="rect">
            <a:avLst/>
          </a:prstGeom>
          <a:ln w="0">
            <a:noFill/>
          </a:ln>
        </p:spPr>
      </p:sp>
      <p:sp>
        <p:nvSpPr>
          <p:cNvPr id="16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omputer worm ever built was the Morris worm (named after Robert Morris).  When Robert Morris first deployed his worm, it was able to infect over 6000 computers within just a few hours, at a rate of hundreds of computers a minute.  A computer virus would spread much slower since new computers could only be infected at the rate at which floppy disks are inserted into infected computers, and then used in uninfected computers.  The rate at which a computer virus can spread would thus be much lower than hundreds per minute because the virus requires the help of the human operator to spread from one computer to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a worm, such as the Morris worm, was able to spread very quickly because it did not need the assistance of a human operator.  Instead, as long as an infected computer is connected to the network, the infected computer could contact other uninfected computers on the network and spread to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id the Morris worm do?  Well, luckily, all that it did was make copies of itself to other computers on the network.  But that in itself was enough to cause significant damage.  The amount of network traffic that was generated by the worm scanning for other computers to infect was significant.  The effort required by systems administrators to determine if a particular computer was infected, and to remove it was also signific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did the Morris worm work? What it would do once it started running, was scan the files /etc/hosts.equiv and /.rhosts to find other machines to attack.  Then it would try it remote login to some of these hosts as one “vector” (or method) of its attack.  The Morris Worm has a dictionary of 432 of “common” passwords that it would try to use to break into user accou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if the worm could not directly remotely login into other hosts, it would use two additional “vectors” of attack.  The first was a buffer overflow vulnerability in fingerd, and the second was a bug in the sendmail program that is used to route e-mail in UNIX.  We will talk about buffer overflow vulnerabilties later this this course. The particular buffer overflow vulnerability that the Morris worm took advantage of was one in a program called fingerd that is installed on UNIX systems.  Finger is a program that let’s you check whether or not a particular user is logged in, and fingerd is a “finger daemon server” that is installed on all UNIX systems.  The Morris worm leveraged the fact that fingerd is installed on all UNIX systems to help propagate from one UNIX machine to the n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vulnerability based upon a programming bug (also in the sendmail program).  The sendmail program is used to route emails from one UNIX host to another, and it had a debugging “feature” that Morris took advantage of to remotely execute code on another machine.  Of course, the debugging mode should have been disabled on production UNIX systems, but the fact that it wasn’t highlights a problem that is still around today– making sure that systems are correctly configured to run secur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9480" y="687240"/>
            <a:ext cx="4581360" cy="3435480"/>
          </a:xfrm>
          <a:prstGeom prst="rect">
            <a:avLst/>
          </a:prstGeom>
          <a:ln w="0">
            <a:noFill/>
          </a:ln>
        </p:spPr>
      </p:sp>
      <p:sp>
        <p:nvSpPr>
          <p:cNvPr id="16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the technical details of the worm and how it worked, we learned a number of other lessons from the Morris w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f all the computers run the same operating systems, they have all the same operating system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riting bug-free software is hard.  The more lines of code, the more bugs.  The more bugs, the more the likelihood that one of the bugs can result in an exploitable security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passwords will minimize the effectiveness of dictionary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Computer Emergency Respons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orris worm did do something serious?  Would shutting down servers be a good id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DCB604-5D79-40BD-BB25-B42C80C70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FDA8FE-E78E-4000-97EE-0A3723893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60CF6F-126D-4EC1-8169-2298243BF3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694CA7-5B01-4055-8A0B-FEDB0D086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12025-0563-4E41-B63E-676A549E9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7A9DF-7CC5-4695-B7CF-0082C4B39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7020F-A817-4BBB-9246-98EDA3E29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076CE-5930-4D10-AB39-B23EB0176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FE763-CAA0-4C3D-BE86-C975B860C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F62D7-C6B9-4F0E-90DE-1EE035294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AD7C3-011A-4FAC-9C4B-1332E483F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16D316-8272-46C1-9193-9B57A2A47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5FF93-5AB2-4A9F-AEBB-B4BD6A6BC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B9713-EB06-4035-B6AA-8401E23FF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97161-1E44-4F41-8CE8-9C43F6497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75DFB-6C38-4F7F-84FB-5B06B8138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4B669-2A2D-4E2A-B013-A6F2FB61F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424CE-A40B-416B-A5C4-9C3876366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56F5B0-7634-4D4A-8314-697800FA7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93F391-820F-44D8-90EC-40274B96C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0CB783-B43C-4923-B283-EC6843007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75F64-91C2-432D-9F65-4610A675A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B4C904-4EAB-48D8-A115-700D7DC2C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2DBAFE-3573-4F66-9870-C44A7B876E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CCAA-DC01-431C-B326-A359B1AD28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E804-351B-4934-9FC4-046392CE71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Worms and Other Malwar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5. The Nimda Worm</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pagation vector</a:t>
            </a:r>
            <a:r>
              <a:rPr b="0" lang="en-US" sz="2800" spc="-1" strike="noStrike">
                <a:solidFill>
                  <a:srgbClr val="000000"/>
                </a:solidFill>
                <a:latin typeface="Arial"/>
              </a:rPr>
              <a:t>: method by which worm spreads to another machin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yload</a:t>
            </a:r>
            <a:r>
              <a:rPr b="0" lang="en-US" sz="2800" spc="-1" strike="noStrike">
                <a:solidFill>
                  <a:srgbClr val="000000"/>
                </a:solidFill>
                <a:latin typeface="Arial"/>
              </a:rPr>
              <a:t>: data worm carries as it trave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made Code Red wor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ultiple propagation ve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from server to server (as in 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lso from server to client (browser downloading infected file also became inf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client sent e-mails with worm code as paylo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Microsoft OS: attacked Distributed Component Object Model service </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deployed but many users didn’t download it</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d infected machine to shut dow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d a DDoS attack against Windows Update website to prevent users from getting the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pic>
        <p:nvPicPr>
          <p:cNvPr id="137" name="" descr=""/>
          <p:cNvPicPr/>
          <p:nvPr/>
        </p:nvPicPr>
        <p:blipFill>
          <a:blip r:embed="rId1"/>
          <a:srcRect l="41322" t="40336" r="39132" b="35666"/>
          <a:stretch/>
        </p:blipFill>
        <p:spPr>
          <a:xfrm>
            <a:off x="3265560" y="1936800"/>
            <a:ext cx="4968720" cy="4575240"/>
          </a:xfrm>
          <a:prstGeom prst="rect">
            <a:avLst/>
          </a:prstGeom>
          <a:ln w="0">
            <a:noFill/>
          </a:ln>
        </p:spPr>
      </p:pic>
      <p:sp>
        <p:nvSpPr>
          <p:cNvPr id="138" name=""/>
          <p:cNvSpPr/>
          <p:nvPr/>
        </p:nvSpPr>
        <p:spPr>
          <a:xfrm>
            <a:off x="348840" y="2089080"/>
            <a:ext cx="22136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ystem shutdow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alog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laster W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SQL Slammer Worm</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other buffer overflow</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a single 376-byte UDP pack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 connectionless -&gt; spread quick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75,000, 90% w/in 10 mi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d Microsoft SQL Server DB App</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server, scanned random IPs to inf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traffic due to the worm propagating caused outages in 13,000 BofA AT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were cancelled &amp; delay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otkits</a:t>
            </a:r>
            <a:r>
              <a:rPr b="0" lang="en-US" sz="2800" spc="-1" strike="noStrike">
                <a:solidFill>
                  <a:srgbClr val="000000"/>
                </a:solidFill>
                <a:latin typeface="Arial"/>
              </a:rPr>
              <a:t>: imposter OS tools used by attacker to hide his tr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tnets</a:t>
            </a:r>
            <a:r>
              <a:rPr b="0" lang="en-US" sz="2800" spc="-1" strike="noStrike">
                <a:solidFill>
                  <a:srgbClr val="000000"/>
                </a:solidFill>
                <a:latin typeface="Arial"/>
              </a:rPr>
              <a:t>: network of software robots attacker uses to control many machines at once to launch attacks (e.g. DDoS through packet flooding, click frau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yware</a:t>
            </a:r>
            <a:r>
              <a:rPr b="0" lang="en-US" sz="2800" spc="-1" strike="noStrike">
                <a:solidFill>
                  <a:srgbClr val="000000"/>
                </a:solidFill>
                <a:latin typeface="Arial"/>
              </a:rPr>
              <a:t>: software that monitors activity of a system or its users without their con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loggers</a:t>
            </a:r>
            <a:r>
              <a:rPr b="0" lang="en-US" sz="2800" spc="-1" strike="noStrike">
                <a:solidFill>
                  <a:srgbClr val="000000"/>
                </a:solidFill>
                <a:latin typeface="Arial"/>
              </a:rPr>
              <a:t>: spyware that monitors user keyboard or mouse input, used to steal usernames, passwords, credit card #s, etc…</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ojan Horses</a:t>
            </a:r>
            <a:r>
              <a:rPr b="0" lang="en-US" sz="2800" spc="-1" strike="noStrike">
                <a:solidFill>
                  <a:srgbClr val="000000"/>
                </a:solidFill>
                <a:latin typeface="Arial"/>
              </a:rPr>
              <a:t>: software performs additional or different functions than advertised</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ware</a:t>
            </a:r>
            <a:r>
              <a:rPr b="0" lang="en-US" sz="2800" spc="-1" strike="noStrike">
                <a:solidFill>
                  <a:srgbClr val="000000"/>
                </a:solidFill>
                <a:latin typeface="Arial"/>
              </a:rPr>
              <a:t>: shows ads to users w/o their consen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bots</a:t>
            </a:r>
            <a:r>
              <a:rPr b="0" lang="en-US" sz="2800" spc="-1" strike="noStrike">
                <a:solidFill>
                  <a:srgbClr val="000000"/>
                </a:solidFill>
                <a:latin typeface="Arial"/>
              </a:rPr>
              <a:t>: bot that clicks on ads, leads to click fraud (against cost-per-click or CPC ad model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907240" y="3000240"/>
            <a:ext cx="3273120" cy="3094200"/>
          </a:xfrm>
          <a:prstGeom prst="rect">
            <a:avLst/>
          </a:prstGeom>
          <a:ln w="0">
            <a:noFill/>
          </a:ln>
        </p:spPr>
      </p:pic>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Distributing Malware</a:t>
            </a:r>
            <a:r>
              <a:rPr b="0" lang="en-US" sz="4400" spc="-1" strike="noStrike" baseline="30000">
                <a:solidFill>
                  <a:srgbClr val="000000"/>
                </a:solidFill>
                <a:latin typeface="Arial"/>
              </a:rPr>
              <a:t>1</a:t>
            </a:r>
            <a:endParaRPr b="0" lang="en-US" sz="4400" spc="-1" strike="noStrike">
              <a:solidFill>
                <a:srgbClr val="000000"/>
              </a:solidFill>
              <a:latin typeface="Arial"/>
            </a:endParaRPr>
          </a:p>
        </p:txBody>
      </p:sp>
      <p:sp>
        <p:nvSpPr>
          <p:cNvPr id="147" name="PlaceHolder 2"/>
          <p:cNvSpPr>
            <a:spLocks noGrp="1"/>
          </p:cNvSpPr>
          <p:nvPr>
            <p:ph/>
          </p:nvPr>
        </p:nvSpPr>
        <p:spPr>
          <a:xfrm>
            <a:off x="457200" y="1862280"/>
            <a:ext cx="8229600" cy="410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alware distribution through </a:t>
            </a:r>
            <a:r>
              <a:rPr b="0" i="1" lang="en-US" sz="2800" spc="-1" strike="noStrike">
                <a:solidFill>
                  <a:srgbClr val="000000"/>
                </a:solidFill>
                <a:latin typeface="Arial"/>
              </a:rPr>
              <a:t>drive-by downloads</a:t>
            </a:r>
            <a:r>
              <a:rPr b="0" lang="en-US" sz="2800" spc="-1" strike="noStrike">
                <a:solidFill>
                  <a:srgbClr val="000000"/>
                </a:solidFill>
                <a:latin typeface="Arial"/>
              </a:rPr>
              <a:t> (i.e. automatic installation of binary when visiting web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ull-based model (e.g. lin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s exposure by getting as many links as possible to malware distribution si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 such as Google </a:t>
            </a:r>
            <a:br>
              <a:rPr sz="2800"/>
            </a:br>
            <a:r>
              <a:rPr b="0" lang="en-US" sz="2800" spc="-1" strike="noStrike">
                <a:solidFill>
                  <a:srgbClr val="000000"/>
                </a:solidFill>
                <a:latin typeface="Arial"/>
              </a:rPr>
              <a:t>mark pages as potentially </a:t>
            </a:r>
            <a:br>
              <a:rPr sz="2800"/>
            </a:br>
            <a:r>
              <a:rPr b="0" lang="en-US" sz="2800" spc="-1" strike="noStrike">
                <a:solidFill>
                  <a:srgbClr val="000000"/>
                </a:solidFill>
                <a:latin typeface="Arial"/>
              </a:rPr>
              <a:t>malicious to prev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806400" y="641988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Source</a:t>
            </a:r>
            <a:r>
              <a:rPr b="0" lang="en-US" sz="1400" spc="-1" strike="noStrike">
                <a:solidFill>
                  <a:srgbClr val="000000"/>
                </a:solidFill>
                <a:latin typeface="Arial"/>
              </a:rPr>
              <a:t>: N. Provos et. al. “The Ghost in the Browser: Analysis of Web-based Malw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2</a:t>
            </a:r>
            <a:r>
              <a:rPr b="0" lang="en-US" sz="4400" spc="-1" strike="noStrike">
                <a:solidFill>
                  <a:srgbClr val="000000"/>
                </a:solidFill>
                <a:latin typeface="Arial"/>
              </a:rPr>
              <a:t> (1)</a:t>
            </a:r>
            <a:endParaRPr b="0" lang="en-US" sz="4400" spc="-1" strike="noStrike">
              <a:solidFill>
                <a:srgbClr val="000000"/>
              </a:solidFill>
              <a:latin typeface="Arial"/>
            </a:endParaRPr>
          </a:p>
        </p:txBody>
      </p:sp>
      <p:sp>
        <p:nvSpPr>
          <p:cNvPr id="150" name="PlaceHolder 2"/>
          <p:cNvSpPr>
            <a:spLocks noGrp="1"/>
          </p:cNvSpPr>
          <p:nvPr>
            <p:ph/>
          </p:nvPr>
        </p:nvSpPr>
        <p:spPr>
          <a:xfrm>
            <a:off x="457200" y="1969920"/>
            <a:ext cx="8229600" cy="4888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00,000 machines, HTTP-based botma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a:t>
            </a:r>
            <a:r>
              <a:rPr b="0" i="1" lang="en-US" sz="2800" spc="-1" strike="noStrike">
                <a:solidFill>
                  <a:srgbClr val="000000"/>
                </a:solidFill>
                <a:latin typeface="Arial"/>
              </a:rPr>
              <a:t>low-noise click fraud</a:t>
            </a:r>
            <a:r>
              <a:rPr b="0" lang="en-US" sz="2800" spc="-1" strike="noStrike">
                <a:solidFill>
                  <a:srgbClr val="000000"/>
                </a:solidFill>
                <a:latin typeface="Arial"/>
              </a:rPr>
              <a:t> against </a:t>
            </a:r>
            <a:r>
              <a:rPr b="0" i="1" lang="en-US" sz="2800" spc="-1" strike="noStrike">
                <a:solidFill>
                  <a:srgbClr val="000000"/>
                </a:solidFill>
                <a:latin typeface="Arial"/>
              </a:rPr>
              <a:t>syndicated search engin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ion: get feeds of ad impress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yndication: partner with a syndicated engin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et a share of revenue from clic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7/24 anti-virus scanners detected it in 5/06</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browser helper object (BH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accessing entire DOM of web pag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PHP with MySQL backe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1</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4629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t>
            </a:r>
            <a:r>
              <a:rPr b="0" i="1" lang="en-US" sz="2800" spc="-1" strike="noStrike">
                <a:solidFill>
                  <a:srgbClr val="000000"/>
                </a:solidFill>
                <a:latin typeface="Arial"/>
              </a:rPr>
              <a:t>doorway-sites</a:t>
            </a:r>
            <a:r>
              <a:rPr b="0" lang="en-US" sz="2800" spc="-1" strike="noStrike">
                <a:solidFill>
                  <a:srgbClr val="000000"/>
                </a:solidFill>
                <a:latin typeface="Arial"/>
              </a:rPr>
              <a:t> (w/ links for bots to click) posing as sub-syndicated search eng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grained control for botmast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noise: set </a:t>
            </a:r>
            <a:r>
              <a:rPr b="0" lang="en-US" sz="2400" spc="-1" strike="noStrike">
                <a:solidFill>
                  <a:srgbClr val="000000"/>
                </a:solidFill>
                <a:latin typeface="Courier New"/>
              </a:rPr>
              <a:t>maxclicks</a:t>
            </a:r>
            <a:r>
              <a:rPr b="0" lang="en-US" sz="2400" spc="-1" strike="noStrike">
                <a:solidFill>
                  <a:srgbClr val="000000"/>
                </a:solidFill>
                <a:latin typeface="Arial"/>
              </a:rPr>
              <a:t> bots could do to 2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redirectors &amp; several layers below major search engine (harder to detect/trac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1398600" y="2911320"/>
            <a:ext cx="6605640" cy="1492560"/>
          </a:xfrm>
          <a:prstGeom prst="rect">
            <a:avLst/>
          </a:prstGeom>
          <a:ln w="0">
            <a:noFill/>
          </a:ln>
        </p:spPr>
      </p:pic>
      <p:sp>
        <p:nvSpPr>
          <p:cNvPr id="154" name=""/>
          <p:cNvSpPr/>
          <p:nvPr/>
        </p:nvSpPr>
        <p:spPr>
          <a:xfrm>
            <a:off x="806400" y="6419880"/>
            <a:ext cx="482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Source</a:t>
            </a:r>
            <a:r>
              <a:rPr b="0" lang="en-US" sz="1400" spc="-1" strike="noStrike">
                <a:solidFill>
                  <a:srgbClr val="000000"/>
                </a:solidFill>
                <a:latin typeface="Arial"/>
              </a:rPr>
              <a:t>: N. Daswani et. al. “The Anatomy of Clickbo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4451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rapidly, exploit common vulnerabilities and cause widespread dam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Buffer Overflows (Programm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open email attachments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unnecessary functionality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systems regularly (SA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scanners with latest definitions</a:t>
            </a:r>
            <a:br>
              <a:rPr sz="2400"/>
            </a:br>
            <a:r>
              <a:rPr b="0" lang="en-US" sz="2400" spc="-1" strike="noStrike">
                <a:solidFill>
                  <a:srgbClr val="000000"/>
                </a:solidFill>
                <a:latin typeface="Arial"/>
              </a:rPr>
              <a:t>Use auto-updating scanners when possible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 programs such as Tripwire (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084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spreading across Internet through vulnerabilities in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Wor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md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er &amp; SQL Slamm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kits, Botnets, Spyware, and more Mal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1. What Is a Wor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rus</a:t>
            </a:r>
            <a:r>
              <a:rPr b="0" lang="en-US" sz="2800" spc="-1" strike="noStrike">
                <a:solidFill>
                  <a:srgbClr val="000000"/>
                </a:solidFill>
                <a:latin typeface="Arial"/>
              </a:rPr>
              <a:t>: program that copies itself into other progra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transferred through infected dis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dependent on human us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rm</a:t>
            </a:r>
            <a:r>
              <a:rPr b="0" lang="en-US" sz="2800" spc="-1" strike="noStrike">
                <a:solidFill>
                  <a:srgbClr val="000000"/>
                </a:solidFill>
                <a:latin typeface="Arial"/>
              </a:rPr>
              <a:t>: a virus that uses the network to copy itself onto other comput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faster than virus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 of computers to infec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is fast (millisecond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 An Abridged History of Worms</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ow worms affect operation of entire Intern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orm: Morris Worm (1988)</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Red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da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er (200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lammer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1. Morris Worm: What It Did</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 6000 computers in just few hour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network traffic by worm propagat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just copied itself; didn’t touch data</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d used: </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a:t>
            </a:r>
            <a:r>
              <a:rPr b="0" lang="en-US" sz="2400" spc="-1" strike="noStrike">
                <a:solidFill>
                  <a:srgbClr val="000000"/>
                </a:solidFill>
                <a:latin typeface="Courier New"/>
              </a:rPr>
              <a:t>fingerd</a:t>
            </a:r>
            <a:r>
              <a:rPr b="0" lang="en-US" sz="2400" spc="-1" strike="noStrike">
                <a:solidFill>
                  <a:srgbClr val="000000"/>
                </a:solidFill>
                <a:latin typeface="Arial"/>
              </a:rPr>
              <a:t> (UNIX)</a:t>
            </a:r>
            <a:endParaRPr b="0" lang="en-US" sz="2400" spc="-1" strike="noStrike">
              <a:solidFill>
                <a:srgbClr val="000000"/>
              </a:solidFill>
              <a:latin typeface="Arial"/>
            </a:endParaRPr>
          </a:p>
          <a:p>
            <a:pPr lvl="1" marL="698400" indent="-2685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debug mode (execute arbitrary commands such as copying worm to another machine)</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of 432 frequently used passwords to login and remotely execute commands via </a:t>
            </a:r>
            <a:r>
              <a:rPr b="0" lang="en-US" sz="2400" spc="-1" strike="noStrike">
                <a:solidFill>
                  <a:srgbClr val="000000"/>
                </a:solidFill>
                <a:latin typeface="Courier New"/>
              </a:rPr>
              <a:t>rexec</a:t>
            </a:r>
            <a:r>
              <a:rPr b="0" lang="en-US" sz="2400" spc="-1" strike="noStrike">
                <a:solidFill>
                  <a:srgbClr val="000000"/>
                </a:solidFill>
                <a:latin typeface="Arial"/>
              </a:rPr>
              <a:t>, </a:t>
            </a:r>
            <a:r>
              <a:rPr b="0" lang="en-US" sz="2400" spc="-1" strike="noStrike">
                <a:solidFill>
                  <a:srgbClr val="000000"/>
                </a:solidFill>
                <a:latin typeface="Courier New"/>
              </a:rPr>
              <a:t>rsh</a:t>
            </a:r>
            <a:endParaRPr b="0" lang="en-US" sz="2400" spc="-1" strike="noStrike">
              <a:solidFill>
                <a:srgbClr val="000000"/>
              </a:solidFill>
              <a:latin typeface="Arial"/>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2. The Morris Worm: </a:t>
            </a:r>
            <a:br>
              <a:rPr sz="4400"/>
            </a:br>
            <a:r>
              <a:rPr b="0" lang="en-US" sz="4400" spc="-1" strike="noStrike">
                <a:solidFill>
                  <a:srgbClr val="000000"/>
                </a:solidFill>
                <a:latin typeface="Arial"/>
              </a:rPr>
              <a:t>What We Learned</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is good: Homogenity of OSes on network -&gt; attacker can exploit vulnerabilities common to most machin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rograms more vulnerable to attac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was large, more bug-pron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ngerd</a:t>
            </a:r>
            <a:r>
              <a:rPr b="0" lang="en-US" sz="2400" spc="-1" strike="noStrike">
                <a:solidFill>
                  <a:srgbClr val="000000"/>
                </a:solidFill>
                <a:latin typeface="Arial"/>
              </a:rPr>
              <a:t> was small, but still bugg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features limits holes: </a:t>
            </a:r>
            <a:r>
              <a:rPr b="0" lang="en-US" sz="2800" spc="-1" strike="noStrike">
                <a:solidFill>
                  <a:srgbClr val="000000"/>
                </a:solidFill>
                <a:latin typeface="Courier New"/>
              </a:rPr>
              <a:t>sendmail</a:t>
            </a:r>
            <a:r>
              <a:rPr b="0" lang="en-US" sz="2800" spc="-1" strike="noStrike">
                <a:solidFill>
                  <a:srgbClr val="000000"/>
                </a:solidFill>
                <a:latin typeface="Arial"/>
              </a:rPr>
              <a:t> debug feature should have been turned of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should choose good passwords: dictionary attack would have been hard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3. The Creation of CERT</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Emergency Response Team (CERT) created due to damage and disruption caused by Morris w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come a leading center on worm activity and software vulnerability announc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awareness bout cyber-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1)</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IS web server buffer overflow</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dexing server” feature: randomly scanned IP addresses to connect to other IIS serv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gt; 2,000 hosts/m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ded automated detec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able more easily by humans than scann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only in memory, no disk writ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d home page of infected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2)</a:t>
            </a:r>
            <a:endParaRPr b="0" lang="en-US" sz="4400" spc="-1" strike="noStrike">
              <a:solidFill>
                <a:srgbClr val="000000"/>
              </a:solidFill>
              <a:latin typeface="Arial"/>
            </a:endParaRPr>
          </a:p>
        </p:txBody>
      </p:sp>
      <p:pic>
        <p:nvPicPr>
          <p:cNvPr id="130" name="" descr=""/>
          <p:cNvPicPr/>
          <p:nvPr/>
        </p:nvPicPr>
        <p:blipFill>
          <a:blip r:embed="rId1"/>
          <a:stretch/>
        </p:blipFill>
        <p:spPr>
          <a:xfrm>
            <a:off x="2338560" y="1654200"/>
            <a:ext cx="6175080" cy="4956120"/>
          </a:xfrm>
          <a:prstGeom prst="rect">
            <a:avLst/>
          </a:prstGeom>
          <a:ln w="0">
            <a:noFill/>
          </a:ln>
        </p:spPr>
      </p:pic>
      <p:sp>
        <p:nvSpPr>
          <p:cNvPr id="131" name=""/>
          <p:cNvSpPr/>
          <p:nvPr/>
        </p:nvSpPr>
        <p:spPr>
          <a:xfrm>
            <a:off x="216000" y="3514680"/>
            <a:ext cx="1749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eb server defac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Code</a:t>
            </a:r>
            <a:r>
              <a:rPr b="0" i="1" lang="en-US" sz="2000" spc="-1" strike="noStrike">
                <a:solidFill>
                  <a:srgbClr val="000000"/>
                </a:solidFill>
                <a:latin typeface="Tahoma"/>
              </a:rPr>
              <a:t> </a:t>
            </a:r>
            <a:r>
              <a:rPr b="0" i="1" lang="en-US" sz="2000" spc="-1" strike="noStrike">
                <a:solidFill>
                  <a:srgbClr val="ff0000"/>
                </a:solidFill>
                <a:latin typeface="Tahoma"/>
              </a:rPr>
              <a:t>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3:29Z</dcterms:modified>
  <cp:revision>3060</cp:revision>
  <dc:subject/>
  <dc:title>Introduction to Computer and Communications Security</dc:title>
</cp:coreProperties>
</file>